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png" ContentType="image/png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8C1D7-EBA5-44FE-A7DB-28E4DB2F97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AE8-4CFC-4575-A502-1A0A335D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865-1CDC-4E7C-9BAC-DCF4C0D4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C59-21DF-4E34-8B46-0EEA0C39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4A5-BD27-4115-87DE-A70DB4F5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332-F5DC-4503-A8A6-E5C2F5C5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ECC-5E95-4765-9A0F-1ED006B1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47B-D95E-457E-BD74-A22B80AF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DE1-8FE6-420B-9606-F0AAD2CA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A9A-C022-4833-9F99-49CDA050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B04-02F8-4D47-A767-96B89501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0D0-CB6B-4332-BF71-7EE24DEF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B78-1347-41B8-9DBF-90D9E10D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CC303-A15A-40C5-926F-FB5FFCEB02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LEÃO E O RATO</a:t>
            </a:r>
            <a:br>
              <a:rPr sz="44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ÁBULA - ES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19640" y="1800360"/>
            <a:ext cx="6119640" cy="485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4140360"/>
            <a:ext cx="2874960" cy="25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79640" y="2457360"/>
            <a:ext cx="1800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7800" y="1440000"/>
            <a:ext cx="4462560" cy="44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9640" y="3600360"/>
            <a:ext cx="2340000" cy="21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LEÃO E O 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a uma vez um enorme e feroz leão, que foi acordado por um ratinho minúsculo que passou correndo por cima do seu ros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um belo salto o leão alcançou o rato e já ia matá-lo para fazer um lanchinho quando, mas o rato suplicou: "Por favor, Alteza-Real-Leão-Senhor-Majestade-Sultão! Por favor, não me mate! Se o senhor poupar a minha vida, tenho certeza de que poderei, um dia, retribuir sua bondade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Leão achou tão engraçado um reles ratinho achar que poderia fazer-lhe um favor, que o soltou com uma enorme gargalh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0360" y="4680000"/>
            <a:ext cx="36003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mpo passou. O leão foi ficando cada vez mais gordo e mais lerdo até que, um dia, caiu numa rede colocada por caçadores. Por mais que tentasse, ele não conseguia se soltar e dava terríveis urros de ra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ntece que aquele ratinho, lá do início desta fábula, ouviu os gritos do leão e saiu correndo para ver o que havia acontecido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40360" y="4633920"/>
            <a:ext cx="4679640" cy="256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25840" y="7840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3603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á chegando, o rato roeu rapidamente , as cordas que prendiam o grande fel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 leão ficou livre, o ratinho dis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Sua majestade achou ridícula a minha idéia de que um dia eu poderia lhe fazer um favor, não é? Pois aí está: sem a minha ajuda, ainda estaria preso. Agora, sabe que até um ratinho pode ser muito útil a um poderoso leão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9280" y="450072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56120" y="65736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60720" y="4319640"/>
            <a:ext cx="408780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36640" y="2347920"/>
            <a:ext cx="660420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8100"/>
                </a:solidFill>
                <a:latin typeface="Arial"/>
              </a:rPr>
              <a:t>Moral da hist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"Os pequenos amigos podem se revelar seus grandes aliado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30:20Z</dcterms:created>
  <dc:creator/>
  <dc:description/>
  <dc:language>en-US</dc:language>
  <cp:lastModifiedBy/>
  <cp:revision>1</cp:revision>
  <dc:subject/>
  <dc:title/>
</cp:coreProperties>
</file>